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F47-B1D3-4EEE-BF76-CED96D23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170-23CE-4AAF-9DD6-AE2E3534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1C9-EB5D-4DC5-867C-96565DD1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93A-9049-4066-9A6F-D02012E3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62A-07F5-4811-820C-50A36DE6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9F7-CB7F-430E-B09C-9C25798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077-C977-428F-AAB5-531BA40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505-71B6-4318-BD77-2E02F776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8A3-30E8-482C-980F-AFA690BF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CF0-0A85-4BB7-8AA1-F7B1BD4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0DA-61D2-45F2-86DF-39BBFEE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860-C4F0-4669-B0CA-C678363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99E8-0BBE-46DA-A068-63954C78D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may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ustar, interesar, aburri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r, examinar, explic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EPASO VERBAL DE LA TAREA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completa la conversac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 Jose, ¿Dónde (1)____ due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:  Ay, doctor. (2)____ duele en todas partes. (3)____ duele la cabeza, (4)_____ duele la gargan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Muy bien, Jose. (5)_____ voy a examinar. ¿(6)_____ permi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228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520" y="2514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75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5-05-07T21:21:50Z</dcterms:modified>
  <cp:revision>31</cp:revision>
  <dc:subject/>
  <dc:title>Me llamo ________ Clase 7 im La fecha es el 13 de mayo del 2011</dc:title>
</cp:coreProperties>
</file>